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BCEA-9B7F-465A-A161-18499DCB2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9B3C-D68E-47B2-9A6E-14FB2EF8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3A8E-905A-499A-A791-3B28B9FA3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B64D-4844-4131-B5BA-3FF8909F0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3337-012D-46B2-8478-FE859978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472C-7382-4AA4-9118-755F8AF9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EAE5-429C-45A2-88C8-0D048CB3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8CEB-8A96-4382-8816-36A6DBB3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AAAA-1DA8-441D-89FE-884D9F27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20FB-E4A3-48DE-935E-858C4294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D9F3-1C89-4EEF-A1A3-3DC1FE61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D277-4B9C-42F5-8D76-F66260A3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41B5-AFE6-4B72-8E2C-41DDB4619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2565360"/>
            <a:ext cx="1871640" cy="1584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kbar"/>
              </a:rPr>
              <a:t>45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4437000"/>
            <a:ext cx="4608360" cy="2087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000000"/>
                </a:solidFill>
                <a:latin typeface="Brady Bunch"/>
              </a:rPr>
              <a:t>456.7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49360"/>
            <a:ext cx="4174920" cy="1584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Porky's"/>
              </a:rPr>
              <a:t>476.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2565360"/>
            <a:ext cx="2592360" cy="1224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.C.M.E. Secret Agent"/>
              </a:rPr>
              <a:t>45.6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32360" y="260280"/>
            <a:ext cx="3816360" cy="1584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Buffied"/>
              </a:rPr>
              <a:t>4.56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80000" y="4437000"/>
            <a:ext cx="3097440" cy="1944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Bradley Hand ITC"/>
              </a:rPr>
              <a:t>456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56360" y="2349360"/>
            <a:ext cx="2663640" cy="1656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465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19:53:53Z</dcterms:created>
  <dc:creator>Betsan Wyn Thomas</dc:creator>
  <dc:description/>
  <dc:language>en-US</dc:language>
  <cp:lastModifiedBy>Betsan Wyn Thomas</cp:lastModifiedBy>
  <dcterms:modified xsi:type="dcterms:W3CDTF">2008-09-08T21:35:55Z</dcterms:modified>
  <cp:revision>2</cp:revision>
  <dc:subject/>
  <dc:title>Slide 1</dc:title>
</cp:coreProperties>
</file>